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1C6-8597-4F68-A469-75BB1200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64A-402D-4717-89C7-484415C6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DD6-2CDE-4F76-B1E7-586BD348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5CB-D3A9-4485-9249-07238CF5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97B8-FE0A-4EBE-BF89-0866E44F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9F087-3CAF-4A3C-B2EA-31325F7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BFC0-1823-4133-ACD2-C4532C3E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9AF5B-C93B-4738-8D89-143463D8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B411-E521-4DC8-8EE3-43F31C0A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1E408-66F9-4CB4-BA30-87506AB8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01984-3EC0-40D7-BDF7-1D8EB267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216-9FF4-45C1-B6E0-BB44C07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4D81-93D1-4901-862B-876F419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8BB2-CBDF-4F17-981F-6CCC393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CF060-6236-4CED-B9F2-7573E7C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68C9-E8D2-4EBA-9237-2B0F4C2E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E7E32-3F4D-49D6-9D96-609E8133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5A9C-C2FF-4DAA-9CA1-999AF7F1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3D33-6E1C-4B8A-A888-1246492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7A63-27E5-4063-8035-990C335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3712-8962-455F-BB12-4BD9EE4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4F18-A90F-4F2E-B8FB-8A738FA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1E4-80F7-4A3A-B0E1-4DD9F05E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18F6-EBDF-4F9B-A668-71956A5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EDDF-E37E-4D07-B148-F2E2AFD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154E-19DD-435D-9CBA-C1260FF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C9A7-7C2C-42D0-BE5D-91EB647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151A-A375-4245-919F-97FF91C4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6ED2-3767-4C76-8C82-36A1C29F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35BB-7844-41E8-9FCC-5128195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2F755-9902-4102-AEBA-004D4F81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F46B9-2449-4540-A3AD-915B0ED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4DEEE-4DD4-437A-A2BB-E8C981F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388-AC29-4B54-9628-F25DC2F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E351F-77B6-4A7E-9CDC-F4AD64F5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40B4D-0525-40A6-83EF-C8519D6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6079B-C109-4DC3-8F7B-B2D428F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0BB22-2AC2-4D71-A1BA-E817AFB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8E422-5B8C-41A5-99D4-43E024E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2FC49-215B-4BCD-9885-0BFB682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C9961-D7B0-4D00-B1F1-B8FAFC2C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152DB-0A7E-4488-9DBA-13331B4A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13248-D42E-487F-A95B-F02ECD8A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035AE-8956-4A90-8E7C-3F9742A6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305-BA30-4D13-A911-554EA604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5E8AD-DA01-4E11-B4BA-0C61AC6C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7FFC9-1E83-4C65-BA27-BF350BCA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B7D78-C095-4378-801E-58E56CAF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B4C96-3001-4554-96D5-53AD137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D06D1-6979-48EB-95BC-5FC0F47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147BF-7D65-4AC2-BD7B-1CC82A0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4C479-1248-423A-B937-23B4FFE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58755-26E5-4CF5-B771-AC363E3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E0745-9BD2-44B5-B561-AFAF5B42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2C25F-A985-496B-AA41-03136F6E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970-070E-40A4-81E8-4DCF415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5A7FB-3038-4799-8C50-BAAC688F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AB4E4-74F6-44FD-8C95-02AE12D9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7248B-16B4-44E1-A8EC-6304615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40A88-9B4B-49F6-B8E9-986C5AE8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18168-AC27-4F28-B2E9-AB6D1FC8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B0E14-FDFA-45D0-A1A7-3B713B86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F1AF1-86E4-4824-90E8-C83A4A20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29669-7A62-4DAF-A60C-DB8AA06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A0B80-5481-4B99-A4FA-22E2F85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3AB9C-888B-46F4-8D86-0136FD3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BF9-BF4A-47AC-8684-B22D00D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2C33D-A4BC-49EC-B084-49DEB41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705D8-9AD2-4082-9FB5-DF23F96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10642-FB1F-4615-B44A-9185734B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705-8125-4055-A1EC-481A399A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D6F-4D31-4765-8E91-5752413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197-7A6C-4F71-8434-BEA24FA1F7F3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36CD-0914-49DB-89FD-8CBAC188B00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355-8F11-4674-9FEC-15E2E275CBD1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7A84-8138-407F-9064-286EFFF2429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0AB-7791-4F61-91A8-8B827CDAF34D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041-E9CE-4AE0-A154-97935FAC2D7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F34-01C8-4472-A58C-39B87CB6E6A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13F0-2669-4FE2-8BBF-22F618FDC15B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7B4-8E70-467C-BF51-20041D68DB7C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D77E-14B8-4E55-8E98-E8B7462BDE9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447F-F0D6-48FA-9C4D-506830BEF8CB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4A9-25BA-47EA-868C-2DB970FCCC9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ebra Wenz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D DOE Program Specialis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s worth learn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stract level – defines what it means to be an educated pers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crete level – defines the meaning of the subject matter being taught [p. 7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s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nstruction helps students achieve the stated objectiv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ocus students’ attention on categories and classific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se examples and nonexamples to help students form the proper categor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lp students see specific categories in relation to a larger classification system, a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mphasize the relevant and important differences among the categories within the context of the larger system [p. 7-8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 types of objectives require different approaches to assess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ha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w do you know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anges [p. 9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cept of Alig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gree of alignment is determined by comparing objectives with assessment, objectives with instruction, and instruction with assessmen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xonomy Table provides an opportunity to facilitate comparis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happens with misalignment? [p. 10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should be clear from the introduction to this chapter that we expect our work to be used in the context of “teachers as curriculum implementers”; that is, teachers are given sets of objectives (e.g., in textbooks or increasingly state- or district-mandated standards) and are expected to deliver instruction that enables a large proportion of students to achieve those standards. The Taxonomy Table should help teachers do this and do it reasonably well. [p. 11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ucture of objectives ~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lph Tyler (1949) – the most useful form for stating objectives is to express them in terms which identify both the kind of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behavior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o be developed in the student and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content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…in which this behavior is to opera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BT view – objective contains a noun and a verb…verb describes the intended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cognitive process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nd the noun generally describes the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knowledge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students are expected to acquire or construc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changed terminology – “cognitive process” replaces “behavior” and “knowledge” replaces “content” [p. 12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94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Title 3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ject matter content is “historically shared knowledge” that is arrived at through a currently shared consensus within a discipline and is subject to change over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the subject matter content of an academic discipline from the materials in which the content is embedded [p. 1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or idea of behavior – based on the predominant theory of psychology at that tim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ever, the perspective was th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tended result of instru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haviorism was a means by which desired ends could be achieved. [p. 1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BT replaced behavior with cognitive pro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List, write, st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– all verbs that are staples in the previous taxonomy; how do students arrive at their lists; did they remember the lists provided by teacher or textbook; or did they analyze material contained in several books? The lower level listing i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Remembering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the higher order level of listing i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nalyz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Whereas – classify, explain, and attribute –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e specific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Classif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s to determine whether something belongs to a category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xplai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ans to construct a cause-and-effect model of a system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ttribu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s to determine the point of view, bias, values or intent [p. 14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omparison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Global objectives –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mplex, multifaceted learning outcomes that require substantial time and instruction to accomplish. Broadly stated and encompass a large # of more specific objectiv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ducational objectives –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cus attention on objectives more specific – student behavior and content topic and more general than day-to-day objectiv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tructional objectives – focus on teaching and testing for day-to-day [p. 15-16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Specificity of Objectiv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Bloom’s Taxonomy – proposed to establish a standard vocabulary for indicating what an item was intended to mea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group (Benjamin Bloom and colleagues) considered the framework a work in progr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gnitive domain initially develope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ffective domain developed in 1964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sychomotor domain developed in 1966 (Simpson, 1966 &amp; Harrow, 1972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group feared thoughts would freeze thought, stifling the development of new frameworks (p. XXVI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09" name="Footer Placeholder 2"/>
          <p:cNvSpPr/>
          <p:nvPr/>
        </p:nvSpPr>
        <p:spPr>
          <a:xfrm>
            <a:off x="2133720" y="6203880"/>
            <a:ext cx="4647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dapted for South Dakota Use from 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Relationship of Global, Educational &amp; Instructional Objectives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1397160"/>
          <a:ext cx="7696080" cy="46036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36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Level of 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ro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r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ime Needed to Lea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ne or More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eeks or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ours o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urpose 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vide V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ign 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pare Lesson Pl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 of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a multiyear 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Units of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Daily Activities, Experiences, and Exerci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inder – objectives describe ends (be able to, learn to) or the intended results; or intended outcomes; or intended chan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NOT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nstructional activities – means by which objectives are achieved – lead to the achievement of stated 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NOT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ests or assessments [p. 17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What Objectives are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icators – take a global or broader vie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ndards – educational goals/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 – instructional 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SD Standard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Thank you!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vision builds on prior wor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ittee comprised of David Krathwohl and Cognitive psychologists, curriculum theorists and instructional researchers, &amp; testing and assessment specialists (p. XXIX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bjectives – help us focus; indicate what we want students to lea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ing is instructional &amp; reasoned 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ach for some purpose &amp; is judged by the writer to be worthwhil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asoned = what objectives are select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ntional – how to help students achieve (p. 3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4" descr=""/>
          <p:cNvPicPr/>
          <p:nvPr/>
        </p:nvPicPr>
        <p:blipFill>
          <a:blip r:embed="rId2"/>
          <a:stretch/>
        </p:blipFill>
        <p:spPr>
          <a:xfrm>
            <a:off x="384120" y="1450800"/>
            <a:ext cx="8375760" cy="349920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3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her terms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tent Standar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urriculum Standards (p. 3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7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al framewor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tegories lie along continuum; major organizing princip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*Classifying objectives**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ment of an objective contains a verb and a no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rb defines cognitive proces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un defines knowledge expected to acquire or construct (p. 4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2 dimen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errelationships as the Taxonomy tab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gnitive Process Dimensi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6 categories (column headings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emember, Understand, Apply, Analyze, Evaluate, Creat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uild on each other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Knowledge Dimensi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 categories (row headings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Facts, Concepts, Process, Meta-cognition (Thinking about Thinking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From concrete to abstract (p. 5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ost important organizing question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 is important for students to learn in the limited school and classroom time available? (the learning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plan and deliver instruction that will result in high level learning for large numbers of students? (the instruction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select or design assessment instruments and procedures that provide accurate information about how well students are learning? (the assessment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ensure that the objectives, instruction, and assessment are consistent with one another? (the alignment question) [p. 6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96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21:55:44Z</dcterms:created>
  <dc:creator>D Wenzel</dc:creator>
  <dc:description/>
  <dc:language>en-US</dc:language>
  <cp:lastModifiedBy>depr14463</cp:lastModifiedBy>
  <dcterms:modified xsi:type="dcterms:W3CDTF">2010-10-14T20:12:18Z</dcterms:modified>
  <cp:revision>13</cp:revision>
  <dc:subject/>
  <dc:title>Revised Bloom’s Taxonomy</dc:title>
</cp:coreProperties>
</file>